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607-B56C-4B66-BBA5-246E3CC7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8A6-2F80-4099-9547-E859401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D08-9B77-4F41-86FF-67CC76F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2D1-88E8-4F2F-A698-BD0BE4FF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5A4-D9ED-4502-8AC7-E584190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2BD-8C9A-4239-9649-40FA0AD5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90E-0693-4977-A638-498F7BBF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9BEF-454F-4F1E-ADF4-CC070C70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FC28-5CD5-4DA6-8906-35E52294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4EA-FDA3-4C9C-919A-CFA185F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FACB-60E7-4F3C-9E89-1FACAE5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720-F3F2-416C-9123-658E206B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7BB-FBB3-4329-AA79-2A89C70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D10-5365-4BE6-9BAE-168AECE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8F4-94DB-493C-8A9A-84B4FCFA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AC1F-45C9-42EE-9A28-F5EC86F8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38A-7322-4085-8113-3AC83A2A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164-4A28-4C98-B63F-E404873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BDD-D4DF-43A4-89D4-61BC435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6EF-1DA7-4750-923B-F491404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F74-008E-4E54-9537-5DED584B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C57-5BBC-410F-A595-BADF433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D54-E424-4185-BEA9-581C983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B0F-3BB1-4C94-803E-09D017F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0305-FC8E-42F6-9B75-248F0686E78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5AFD-5CA6-4713-8348-231690FEFAEB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bib.uc3m.es/~mendez/imgimg/oveja.jpg&amp;imgrefurl=http://www.bib.uc3m.es/~mendez/img.htm&amp;h=173&amp;w=269&amp;sz=18&amp;tbnid=8zo0VQ6JurgJ:&amp;tbnh=69&amp;tbnw=108&amp;hl=es&amp;start=44&amp;prev=/images%3Fq%3Doveja%2B%26start%3D40%26svnum%3D10%26hl%3Des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es/imgres?imgurl=http://www.indicedepaginas.com/mariquita.gif&amp;imgrefurl=http://www.indicedepaginas.com/eco_marzo.html&amp;h=300&amp;w=300&amp;sz=36&amp;tbnid=Jo7DviGaJBUJ:&amp;tbnh=111&amp;tbnw=111&amp;hl=es&amp;start=3&amp;prev=/images%3Fq%3Dmariquita%26svnum%3D10%26hl%3Des%26lr%3D%26sa%3D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es/imgres?imgurl=http://www.htemexico.com/files/aguila.jpg&amp;imgrefurl=http://www.htemexico.com/convencion.html&amp;h=210&amp;w=280&amp;sz=9&amp;tbnid=LPGXieLXiMMJ:&amp;tbnh=81&amp;tbnw=109&amp;hl=es&amp;start=1&amp;prev=/images%3Fq%3Daguila%26svnum%3D10%26hl%3Des%26lr%3D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es/imgres?imgurl=http://www2.udec.cl/~fralarco/leones/leones4.JPG&amp;imgrefurl=http://www2.udec.cl/~fralarco/leones/fotos1.html&amp;h=372&amp;w=556&amp;sz=25&amp;tbnid=epa2FPsF8XYJ:&amp;tbnh=87&amp;tbnw=131&amp;hl=es&amp;start=5&amp;prev=/images%3Fq%3Dleones%26svnum%3D10%26hl%3Des%26lr%3D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images.google.es/imgres?imgurl=http://www.animalweb.cl/noticias/not-fotos/oso%2520pardo.jpg&amp;imgrefurl=http://www.animalweb.cl/noticias/asesinan_a_canela.htm&amp;h=244&amp;w=183&amp;sz=13&amp;tbnid=wN3iPGe1aUQJ:&amp;tbnh=105&amp;tbnw=78&amp;hl=es&amp;start=2&amp;prev=/images%3Fq%3Doso%26svnum%3D10%26hl%3Des%26lr%3D%26sa%3D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18" Type="http://schemas.openxmlformats.org/officeDocument/2006/relationships/image" Target="../media/image12.jpeg"/><Relationship Id="rId19" Type="http://schemas.openxmlformats.org/officeDocument/2006/relationships/hyperlink" Target="http://images.google.es/imgres?imgurl=http://www.leoloqueveo.org/carnepescado/pulpo.jpg&amp;imgrefurl=http://www.leoloqueveo.org/alimenanimal.htm&amp;h=201&amp;w=224&amp;sz=13&amp;tbnid=HeSuQbUi-2kJ:&amp;tbnh=91&amp;tbnw=102&amp;hl=es&amp;start=3&amp;prev=/images%3Fq%3Dpulpo%26svnum%3D10%26hl%3Des%26lr%3D" TargetMode="External"/><Relationship Id="rId20" Type="http://schemas.openxmlformats.org/officeDocument/2006/relationships/image" Target="../media/image13.jpeg"/><Relationship Id="rId21" Type="http://schemas.openxmlformats.org/officeDocument/2006/relationships/hyperlink" Target="http://images.google.es/imgres?imgurl=http://www.terrario.org.ve/images/anireycalifornia.jpg&amp;imgrefurl=http://www.terrario.org.ve/animales.htm&amp;h=198&amp;w=198&amp;sz=14&amp;tbnid=0rE4AH7Z_3gJ:&amp;tbnh=99&amp;tbnw=99&amp;hl=es&amp;start=16&amp;prev=/images%3Fq%3Dserpiente%26svnum%3D10%26hl%3Des%26lr%3D" TargetMode="External"/><Relationship Id="rId22" Type="http://schemas.openxmlformats.org/officeDocument/2006/relationships/image" Target="../media/image14.jpeg"/><Relationship Id="rId2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harcourtschool.com/glossary/science/images/gr1/senses1.jpg&amp;imgrefurl=http://www.harcourtschool.com/glossary/science/define/gr1/senses1a.html&amp;h=109&amp;w=380&amp;sz=17&amp;tbnid=MH75bEzStfMJ:&amp;tbnh=34&amp;tbnw=119&amp;hl=es&amp;start=42&amp;prev=/images%3Fq%3Dsentidos%2Btacto%26start%3D40%26svnum%3D10%26hl%3Des%26lr%3D%26sa%3DN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rmudas.ls.fi.upm.es/~gonzalo/imagenes/fotos/edmonton/ciervo.jpg&amp;imgrefurl=http://bermudas.ls.fi.upm.es/~gonzalo/edmonton04.html&amp;h=768&amp;w=1024&amp;sz=293&amp;tbnid=iPYEfVAS3KEJ:&amp;tbnh=112&amp;tbnw=150&amp;hl=es&amp;start=10&amp;prev=/images%3Fq%3Dciervo%26svnum%3D10%26hl%3Des%26lr%3D%26sa%3D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es/imgres?imgurl=http://www.liderdigital.com/imagenes/noticias/foto2/Vida_animal-leones.jpg&amp;imgrefurl=http://www.liderdigital.com/imagenes/noticias/foto2/&amp;h=377&amp;w=250&amp;sz=65&amp;tbnid=FoYUUHLk5aQJ:&amp;tbnh=119&amp;tbnw=78&amp;hl=es&amp;start=1&amp;prev=/images%3Fq%3Dleones%26svnum%3D10%26hl%3Des%26lr%3D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es/imgres?imgurl=http://www.estancia-villamaria.com/img/Otros%2520animales/Salvajes/antilope_salto_solo_med.jpg&amp;imgrefurl=http://www.estancia-villamaria.com/&amp;h=421&amp;w=500&amp;sz=52&amp;tbnid=mAj6Di4qyy0J:&amp;tbnh=106&amp;tbnw=127&amp;hl=es&amp;start=4&amp;prev=/images%3Fq%3Danimales%2Bsalvajes%26svnum%3D10%26hl%3Des%26lr%3D%26sa%3D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es/imgres?imgurl=http://www.biologia.org/revista/fotos/numero14/Image68.jpg&amp;imgrefurl=http://www.biologia.org/%3Fpid%3D5000%26page%3D0%26id%3D75&amp;h=1074&amp;w=1024&amp;sz=263&amp;tbnid=aVA74ocLMxIJ:&amp;tbnh=150&amp;tbnw=143&amp;hl=es&amp;start=2&amp;prev=/images%3Fq%3Dtela%2Bde%2Bara%25C3%25B1a%26svnum%3D10%26hl%3Des%26lr%3D%26sa%3DN" TargetMode="External"/><Relationship Id="rId8" Type="http://schemas.openxmlformats.org/officeDocument/2006/relationships/image" Target="../media/image43.jpeg"/><Relationship Id="rId9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es/imgres?imgurl=http://redescolar.ilce.edu.mx/redescolar/publicaciones/publi_biosfera/fauna/vaca/vaca.jpg&amp;imgrefurl=http://redescolar.ilce.edu.mx/redescolar/publicaciones/publi_biosfera/fauna/vaca/vaca.htm&amp;h=245&amp;w=350&amp;sz=36&amp;tbnid=JfoOoC1PL-YJ:&amp;tbnh=81&amp;tbnw=116&amp;hl=es&amp;start=13&amp;prev=/images%3Fq%3Dvaca%26svnum%3D10%26hl%3Des%26lr%3D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es/imgres?imgurl=http://www.ferplast.com/fercatal/dep/69094000.jpg&amp;imgrefurl=http://www.ferplast.com/fr/pagina_242100.html&amp;h=177&amp;w=280&amp;sz=86&amp;tbnid=0bLwSaZa2uEJ:&amp;tbnh=68&amp;tbnw=109&amp;hl=es&amp;start=20&amp;prev=/images%3Fq%3Dhierba%26svnum%3D10%26hl%3Des%26lr%3D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rmudas.ls.fi.upm.es/~gonzalo/imagenes/fotos/edmonton/ciervo.jpg&amp;imgrefurl=http://bermudas.ls.fi.upm.es/~gonzalo/edmonton04.html&amp;h=768&amp;w=1024&amp;sz=293&amp;tbnid=iPYEfVAS3KEJ:&amp;tbnh=112&amp;tbnw=150&amp;hl=es&amp;start=10&amp;prev=/images%3Fq%3Dciervo%26svnum%3D10%26hl%3Des%26lr%3D%26sa%3D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es/imgres?imgurl=http://www.liderdigital.com/imagenes/noticias/foto2/Vida_animal-leones.jpg&amp;imgrefurl=http://www.liderdigital.com/imagenes/noticias/foto2/&amp;h=377&amp;w=250&amp;sz=65&amp;tbnid=FoYUUHLk5aQJ:&amp;tbnh=119&amp;tbnw=78&amp;hl=es&amp;start=1&amp;prev=/images%3Fq%3Dleones%26svnum%3D10%26hl%3Des%26lr%3D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es/imgres?imgurl=http://www.estancia-villamaria.com/img/Otros%2520animales/Salvajes/antilope_salto_solo_med.jpg&amp;imgrefurl=http://www.estancia-villamaria.com/&amp;h=421&amp;w=500&amp;sz=52&amp;tbnid=mAj6Di4qyy0J:&amp;tbnh=106&amp;tbnw=127&amp;hl=es&amp;start=4&amp;prev=/images%3Fq%3Danimales%2Bsalvajes%26svnum%3D10%26hl%3Des%26lr%3D%26sa%3DN" TargetMode="External"/><Relationship Id="rId6" Type="http://schemas.openxmlformats.org/officeDocument/2006/relationships/image" Target="../media/image42.jpeg"/><Relationship Id="rId7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es/imgres?imgurl=http://www.biologia.org/revista/fotos/numero14/Image68.jpg&amp;imgrefurl=http://www.biologia.org/%3Fpid%3D5000%26page%3D0%26id%3D75&amp;h=1074&amp;w=1024&amp;sz=263&amp;tbnid=aVA74ocLMxIJ:&amp;tbnh=150&amp;tbnw=143&amp;hl=es&amp;start=2&amp;prev=/images%3Fq%3Dtela%2Bde%2Bara%25C3%25B1a%26svnum%3D10%26hl%3Des%26lr%3D%26sa%3DN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images.google.es/imgres?imgurl=http://redescolar.ilce.edu.mx/redescolar/publicaciones/publi_biosfera/fauna/vaca/vaca.jpg&amp;imgrefurl=http://redescolar.ilce.edu.mx/redescolar/publicaciones/publi_biosfera/fauna/vaca/vaca.htm&amp;h=245&amp;w=350&amp;sz=36&amp;tbnid=JfoOoC1PL-YJ:&amp;tbnh=81&amp;tbnw=116&amp;hl=es&amp;start=13&amp;prev=/images%3Fq%3Dvaca%26svnum%3D10%26hl%3Des%26lr%3D" TargetMode="External"/><Relationship Id="rId12" Type="http://schemas.openxmlformats.org/officeDocument/2006/relationships/image" Target="../media/image44.jpeg"/><Relationship Id="rId13" Type="http://schemas.openxmlformats.org/officeDocument/2006/relationships/hyperlink" Target="http://images.google.es/imgres?imgurl=http://www.ferplast.com/fercatal/dep/69094000.jpg&amp;imgrefurl=http://www.ferplast.com/fr/pagina_242100.html&amp;h=177&amp;w=280&amp;sz=86&amp;tbnid=0bLwSaZa2uEJ:&amp;tbnh=68&amp;tbnw=109&amp;hl=es&amp;start=20&amp;prev=/images%3Fq%3Dhierba%26svnum%3D10%26hl%3Des%26lr%3D" TargetMode="External"/><Relationship Id="rId14" Type="http://schemas.openxmlformats.org/officeDocument/2006/relationships/image" Target="../media/image45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nf.ufrgs.br/cg/vpat/image6.gif&amp;imgrefurl=http://www.inf.ufrgs.br/cg/vpat/vpatDescription.html&amp;h=1122&amp;w=827&amp;sz=167&amp;tbnid=Kn97Fe7EdFYJ:&amp;tbnh=150&amp;tbnw=110&amp;hl=es&amp;start=14&amp;prev=/images%3Fq%3Desqueleto%26svnum%3D10%26hl%3Des%26lr%3D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es/imgres?imgurl=http://www.alaquairum.com/imagenes/esqueleto.jpg&amp;imgrefurl=http://www.alaquairum.com/anatomia_de_los_anfibios.htm&amp;h=460&amp;w=706&amp;sz=59&amp;tbnid=ciMzTT_37w0J:&amp;tbnh=89&amp;tbnw=138&amp;hl=es&amp;start=34&amp;prev=/images%3Fq%3Desqueleto%26start%3D20%26svnum%3D10%26hl%3Des%26lr%3D%26sa%3DN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google.es/imgres?imgurl=http://www.icarito.cl/infografia/fauna_chilena/aves/img/esqueleto-min.jpg&amp;imgrefurl=http://www.icarito.cl/icarito/2003/902/pag4.htm&amp;h=200&amp;w=200&amp;sz=11&amp;tbnid=XjPk1ERD8d0J:&amp;tbnh=99&amp;tbnw=99&amp;hl=es&amp;start=38&amp;prev=/images%3Fq%3Desqueleto%26start%3D20%26svnum%3D10%26hl%3Des%26lr%3D%26sa%3DN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images.google.es/imgres?imgurl=http://www.spanishhorses.com/osteopatia/imagenes/esqueleto.jpg&amp;imgrefurl=http://www.spanishhorses.com/osteopatia/vertebras.html&amp;h=212&amp;w=300&amp;sz=22&amp;tbnid=LqUxcFG3o1gJ:&amp;tbnh=78&amp;tbnw=111&amp;hl=es&amp;start=35&amp;prev=/images%3Fq%3Desqueleto%26start%3D20%26svnum%3D10%26hl%3Des%26lr%3D%26sa%3DN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images.google.es/imgres?imgurl=http://www.scielo.org.ve/img/fbpe/imme/v40n1/art03img02.gif&amp;imgrefurl=http://www.scielo.org.ve/scielo.php%3Fpid%3DS0376-723X2002000100003%26script%3Dsci_arttext&amp;h=1380&amp;w=760&amp;sz=769&amp;tbnid=lFKNIzk1fCoJ:&amp;tbnh=150&amp;tbnw=82&amp;hl=es&amp;start=60&amp;prev=/images%3Fq%3Dhuesos%26start%3D40%26svnum%3D10%26hl%3Des%26lr%3D%26sa%3DN" TargetMode="External"/><Relationship Id="rId10" Type="http://schemas.openxmlformats.org/officeDocument/2006/relationships/image" Target="../media/image50.jpeg"/><Relationship Id="rId11" Type="http://schemas.openxmlformats.org/officeDocument/2006/relationships/hyperlink" Target="http://images.google.es/imgres?imgurl=http://www.javiercarricajo.com.ar/carricajo_huesos_web.jpg&amp;imgrefurl=http://www.javiercarricajo.com.ar/carricajo_pint_huesos.htm&amp;h=244&amp;w=322&amp;sz=15&amp;tbnid=8xIqsWnssF4J:&amp;tbnh=86&amp;tbnw=114&amp;hl=es&amp;start=42&amp;prev=/images%3Fq%3Dhuesos%26start%3D40%26svnum%3D10%26hl%3Des%26lr%3D%26sa%3DN" TargetMode="External"/><Relationship Id="rId12" Type="http://schemas.openxmlformats.org/officeDocument/2006/relationships/image" Target="../media/image51.jpeg"/><Relationship Id="rId13" Type="http://schemas.openxmlformats.org/officeDocument/2006/relationships/hyperlink" Target="http://images.google.es/imgres?imgurl=http://www.ciencia-hoy.retina.ar/hoy49/images/huesos.jpg&amp;imgrefurl=http://www.ciencia-hoy.retina.ar/hoy49/carle.htm&amp;h=151&amp;w=250&amp;sz=35&amp;tbnid=p_Ppack3I9QJ:&amp;tbnh=64&amp;tbnw=106&amp;hl=es&amp;start=23&amp;prev=/images%3Fq%3Dhuesos%26start%3D20%26svnum%3D10%26hl%3Des%26lr%3D%26sa%3DN" TargetMode="External"/><Relationship Id="rId14" Type="http://schemas.openxmlformats.org/officeDocument/2006/relationships/image" Target="../media/image52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nf.ufrgs.br/cg/vpat/image6.gif&amp;imgrefurl=http://www.inf.ufrgs.br/cg/vpat/vpatDescription.html&amp;h=1122&amp;w=827&amp;sz=167&amp;tbnid=Kn97Fe7EdFYJ:&amp;tbnh=150&amp;tbnw=110&amp;hl=es&amp;start=14&amp;prev=/images%3Fq%3Desqueleto%26svnum%3D10%26hl%3Des%26lr%3D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es/imgres?imgurl=http://www.spanishhorses.com/osteopatia/imagenes/esqueleto.jpg&amp;imgrefurl=http://www.spanishhorses.com/osteopatia/vertebras.html&amp;h=212&amp;w=300&amp;sz=22&amp;tbnid=LqUxcFG3o1gJ:&amp;tbnh=78&amp;tbnw=111&amp;hl=es&amp;start=35&amp;prev=/images%3Fq%3Desqueleto%26start%3D20%26svnum%3D10%26hl%3Des%26lr%3D%26sa%3DN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images.google.es/imgres?imgurl=http://www.ciencia-hoy.retina.ar/hoy49/images/huesos.jpg&amp;imgrefurl=http://www.ciencia-hoy.retina.ar/hoy49/carle.htm&amp;h=151&amp;w=250&amp;sz=35&amp;tbnid=p_Ppack3I9QJ:&amp;tbnh=64&amp;tbnw=106&amp;hl=es&amp;start=23&amp;prev=/images%3Fq%3Dhuesos%26start%3D20%26svnum%3D10%26hl%3Des%26lr%3D%26sa%3DN" TargetMode="External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12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iespana.es/aquafish/images/peces/marina_fria/f-estrella_mar.jpg&amp;imgrefurl=http://www.iespana.es/aquafish/peces/marina_fria/estrella_mar.htm&amp;h=293&amp;w=473&amp;sz=203&amp;tbnid=Kra4O_LMyw0J:&amp;tbnh=78&amp;tbnw=126&amp;hl=es&amp;start=1&amp;prev=/images%3Fq%3Destrella%2Bde%2Bmar%26svnum%3D10%26hl%3Des%26lr%3D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es/imgres?imgurl=http://www.vionline.com/pix/gallery/peces.jpg&amp;imgrefurl=http://www.vionline.com/main/gallery.html&amp;h=480&amp;w=640&amp;sz=106&amp;tbnid=9t_k8EgYEhQJ:&amp;tbnh=101&amp;tbnw=135&amp;hl=es&amp;start=5&amp;prev=/images%3Fq%3Dpeces%26svnum%3D10%26hl%3Des%26lr%3D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es/imgres?imgurl=http://www.palermonline.com.ar/noticias/imagenes_news/leones.jpg&amp;imgrefurl=http://www.palermonline.com.ar/noticias/nota348_zoo_historia.htm&amp;h=300&amp;w=227&amp;sz=12&amp;tbnid=oQjmxzUDIAcJ:&amp;tbnh=111&amp;tbnw=83&amp;hl=es&amp;start=7&amp;prev=/images%3Fq%3Dleones%26svnum%3D10%26hl%3Des%26lr%3D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es/imgres?imgurl=http://www.fotonatura.org/miembros/fotos/usr8785/Cebra_grande.jpg&amp;imgrefurl=http://www.fotonatura.org/galerias/foto.php%3Fid_foto%3D78577%26id_galeria%3D4445&amp;h=600&amp;w=399&amp;sz=85&amp;tbnid=OTeDWg8vY-MJ:&amp;tbnh=133&amp;tbnw=88&amp;hl=es&amp;start=12&amp;prev=/images%3Fq%3Dcebra%26svnum%3D10%26hl%3Des%26lr%3D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oncienciasinfronteras.com/IMAGEN/chimpance.jpg&amp;imgrefurl=http://www.concienciasinfronteras.com/PAGINAS/CONCIENCIA/cieloytierra.html&amp;h=292&amp;w=250&amp;sz=4&amp;tbnid=8vqBMcXBvlkJ:&amp;tbnh=111&amp;tbnw=95&amp;hl=es&amp;start=2&amp;prev=/images%3Fq%3Dchimpanc%25C3%25A9%26svnum%3D10%26hl%3Des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es/imgres?imgurl=http://www.historiaviva.org/galeria_gc/desde_pozo-nieves-canonigos_arco-roca.jpg&amp;imgrefurl=http://www.historiaviva.org/galeria_gc/index2.shtml&amp;h=375&amp;w=500&amp;sz=47&amp;tbnid=CFs7NnMQdA0J:&amp;tbnh=95&amp;tbnw=127&amp;hl=es&amp;start=5&amp;prev=/images%3Fq%3Droca%26svnum%3D10%26hl%3Des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es/imgres?imgurl=http://www.asb.com.ar/Vegetales/Arbol.jpg&amp;imgrefurl=http://www.asb.com.ar/Vegetales.html&amp;h=255&amp;w=394&amp;sz=51&amp;tbnid=M03XOuwPCKQJ:&amp;tbnh=77&amp;tbnw=120&amp;hl=es&amp;start=6&amp;prev=/images%3Fq%3Darbol%26svnum%3D10%26hl%3Des%26lr%3D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es/imgres?imgurl=http://shoppingba.infobae.com/infofitness/adjuntos/notas/03/0000397.jpg&amp;imgrefurl=http://shoppingba.infobae.com/infofitness/home/nota_detalle.php%3Fidxnota%3D397%26idxrubro%3D10&amp;h=169&amp;w=143&amp;sz=7&amp;tbnid=NSsjUteIc1gJ:&amp;tbnh=94&amp;tbnw=79&amp;hl=es&amp;start=4&amp;prev=/images%3Fq%3Dalimentarse%26svnum%3D10%26hl%3Des%26lr%3D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es/imgres?imgurl=http://www.analyzing-weight-loss.com/walking.jpg&amp;imgrefurl=http://www.analyzing-weight-loss.com/nihongo/exercise-ideas.html&amp;h=200&amp;w=150&amp;sz=7&amp;tbnid=nZgKAvdeX8EJ:&amp;tbnh=99&amp;tbnw=74&amp;hl=es&amp;start=5&amp;prev=/images%3Fq%3Dcaminar%26svnum%3D10%26hl%3Des%26lr%3D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google.es/imgres?imgurl=http://www.es.airliquide.com/images/sectores-fotos/sa-agro-aliment.jpg&amp;imgrefurl=http://www.es.airliquide.com/sa_agro.htm&amp;h=144&amp;w=175&amp;sz=9&amp;tbnid=D--5iTRN808J:&amp;tbnh=78&amp;tbnw=95&amp;hl=es&amp;start=5&amp;prev=/images%3Fq%3Daliment%26svnum%3D10%26hl%3Des%26lr%3D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images.google.es/imgres?imgurl=http://webs.demasiado.com/mapaz/delfin.jpg&amp;imgrefurl=http://webs.demasiado.com/mapaz/paginape.html&amp;h=244&amp;w=300&amp;sz=33&amp;tbnid=mXImUBug734J:&amp;tbnh=90&amp;tbnw=111&amp;hl=es&amp;start=3&amp;prev=/images%3Fq%3Ddelfin%26svnum%3D10%26hl%3Des%26lr%3D" TargetMode="External"/><Relationship Id="rId14" Type="http://schemas.openxmlformats.org/officeDocument/2006/relationships/image" Target="../media/image25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chicureo.com/Destacados/provisorio/AranaTigre_th.jpg&amp;imgrefurl=http://www.chicureo.com/Destacados/aranatigre_m.htm&amp;h=280&amp;w=200&amp;sz=8&amp;tbnid=djO_x-dfbhIJ:&amp;tbnh=109&amp;tbnw=77&amp;hl=es&amp;start=3&amp;prev=/images%3Fq%3Dara%25C3%25B1a%26svnum%3D10%26hl%3Des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es/imgres?imgurl=http://www.parks.it/parco.po.to/foto/Rana.Verde-800.jpg&amp;imgrefurl=http://www.parks.it/parco.po.to/par-info.html&amp;h=600&amp;w=800&amp;sz=102&amp;tbnid=natTt9PglisJ:&amp;tbnh=106&amp;tbnw=142&amp;hl=es&amp;start=3&amp;prev=/images%3Fq%3Drana%26svnum%3D10%26hl%3Des%26lr%3D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elsalvador.com/hablemos/Ediciones/111101/fotos/PECES.JPG&amp;imgrefurl=http://www.elsalvador.com/hablemos/Ediciones/111101/medioambiente.htm&amp;h=228&amp;w=190&amp;sz=17&amp;tbnid=rER6JQbS_xEJ:&amp;tbnh=103&amp;tbnw=85&amp;hl=es&amp;start=10&amp;prev=/images%3Fq%3Dpeces%26svnum%3D10%26hl%3Des%26lr%3D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es/imgres?imgurl=http://www.tustrucos.com/wallpapers/Animales/fondos-animales-Caballos/Caballos-Corriendo-En-Primavera.jpg&amp;imgrefurl=http://www.tustrucos.com/wallpapers/Animales/fondos-animales-Caballos/Caballos-Corriendo-En-Primavera.htm&amp;h=768&amp;w=1024&amp;sz=183&amp;tbnid=Wss4bFcVf6cJ:&amp;tbnh=112&amp;tbnw=150&amp;hl=es&amp;start=6&amp;prev=/images%3Fq%3Danimales%2Bcorriendo%26svnum%3D10%26hl%3Des%26lr%3D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bosquesanpatricio.homestead.com/files/gusano-g.jpg&amp;imgrefurl=http://www.lesclat.com/modules.php%3Fname%3DNews%26file%3Darticle%26sid%3D559&amp;h=392&amp;w=600&amp;sz=23&amp;tbnid=3EfBVDp530QJ:&amp;tbnh=86&amp;tbnw=133&amp;hl=es&amp;start=1&amp;prev=/images%3Fq%3Dgusano%26svnum%3D10%26hl%3Des%26lr%3D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usuarios.tiscali.es/monthegreat/Aparato%2520Circulatorio.gif&amp;imgrefurl=http://usuarios.tiscali.es/monthegreat/sistema_cadiocirculatorio.htm&amp;h=626&amp;w=400&amp;sz=44&amp;tbnid=Mg46xIzAgeQJ:&amp;tbnh=134&amp;tbnw=85&amp;hl=es&amp;start=1&amp;prev=/images%3Fq%3Daparato%2Bcirculatorio%26svnum%3D10%26hl%3Des%26lr%3D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es/imgres?imgurl=http://www.ctv.es/USERS/sos/images/esquel.gif&amp;imgrefurl=http://www.ctv.es/USERS/sos/aparloco.htm&amp;h=401&amp;w=250&amp;sz=5&amp;tbnid=CzWw-9Lhzu0J:&amp;tbnh=120&amp;tbnw=74&amp;hl=es&amp;start=2&amp;prev=/images%3Fq%3Daparato%2Blocomotor%26svnum%3D10%26hl%3Des%26lr%3D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ages.google.es/imgres?imgurl=http://www.santillana.es/proyectosEnRed/secunda/imagenes/digestivo.gif&amp;imgrefurl=http://www.santillana.es/proyectosEnRed/secunda/html2/cie3/05_1.htm&amp;h=353&amp;w=262&amp;sz=21&amp;tbnid=xp8urSOZ0s4J:&amp;tbnh=116&amp;tbnw=86&amp;hl=es&amp;start=10&amp;prev=/images%3Fq%3Daparato%2Bdigestivo%26svnum%3D10%26hl%3Des%26lr%3D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es/imgres?imgurl=http://www.omerique.net/twiki/pub/Recursos/AparatoRespiratorio/respigr.gif&amp;imgrefurl=http://www.omerique.net/twiki/pub/Recursos/AparatoRespiratorio/aparatorespiratorio.html&amp;h=441&amp;w=640&amp;sz=62&amp;tbnid=lVK5QbZfMmIJ:&amp;tbnh=93&amp;tbnw=135&amp;hl=es&amp;start=1&amp;prev=/images%3Fq%3Daparatorespiratorio%26svnum%3D10%26hl%3Des%26lr%3D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images.google.es/imgres?imgurl=http://usuarios.tiscali.es/monthegreat/CEREBRO1.gif&amp;imgrefurl=http://usuarios.tiscali.es/monthegreat/sistema_nervioso.htm&amp;h=255&amp;w=248&amp;sz=6&amp;tbnid=oKxddJ7F2PIJ:&amp;tbnh=106&amp;tbnw=103&amp;hl=es&amp;start=9&amp;prev=/images%3Fq%3Dsistema%2Bnervioso%26svnum%3D10%26hl%3Des%26lr%3D" TargetMode="External"/><Relationship Id="rId10" Type="http://schemas.openxmlformats.org/officeDocument/2006/relationships/image" Target="../media/image31.jpeg"/><Relationship Id="rId11" Type="http://schemas.openxmlformats.org/officeDocument/2006/relationships/hyperlink" Target="http://images.google.es/imgres?imgurl=http://www.psicologia-online.com/ebooks/general/imagenes/brainmedialcolor.gif&amp;imgrefurl=http://www.psicologia-online.com/ebooks/general/sncentral.htm&amp;h=350&amp;w=550&amp;sz=12&amp;tbnid=OpYPmxEiN3MJ:&amp;tbnh=82&amp;tbnw=130&amp;hl=es&amp;start=7&amp;prev=/images%3Fq%3Dsistema%2Bnervioso%26svnum%3D10%26hl%3Des%26lr%3D" TargetMode="External"/><Relationship Id="rId12" Type="http://schemas.openxmlformats.org/officeDocument/2006/relationships/image" Target="../media/image32.jpeg"/><Relationship Id="rId13" Type="http://schemas.openxmlformats.org/officeDocument/2006/relationships/hyperlink" Target="http://images.google.es/imgres?imgurl=http://www.salonhogar.com/ciencias/biologia/sentidos/vista.9.jpg&amp;imgrefurl=http://www.salonhogar.com/ciencias/biologia/sentidos/vista.htm&amp;h=270&amp;w=198&amp;sz=13&amp;tbnid=Czy0OX1QTUsJ:&amp;tbnh=108&amp;tbnw=79&amp;hl=es&amp;start=1&amp;prev=/images%3Fq%3Dsentidos%2Bvista%26svnum%3D10%26hl%3Des%26lr%3D" TargetMode="External"/><Relationship Id="rId14" Type="http://schemas.openxmlformats.org/officeDocument/2006/relationships/image" Target="../media/image33.jpeg"/><Relationship Id="rId15" Type="http://schemas.openxmlformats.org/officeDocument/2006/relationships/hyperlink" Target="http://images.google.es/imgres?imgurl=http://www.aldeaeducativa.com/small/sentido1.jpg&amp;imgrefurl=http://www.aldeaeducativa.com/aldea/Biograf2.asp%3FWhich1%3D362&amp;h=150&amp;w=150&amp;sz=8&amp;tbnid=I3hyT-G4ZXgJ:&amp;tbnh=90&amp;tbnw=90&amp;hl=es&amp;start=10&amp;prev=/images%3Fq%3Dsentidos%2Boido%26svnum%3D10%26hl%3Des%26lr%3D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http://images.google.es/imgres?imgurl=http://www.saudevidaonline.com.br/imagens/olfato.gif&amp;imgrefurl=http://www.saudevidaonline.com.br/sentidos.htm&amp;h=197&amp;w=150&amp;sz=15&amp;tbnid=pKZMkJG9qZkJ:&amp;tbnh=98&amp;tbnw=74&amp;hl=es&amp;start=18&amp;prev=/images%3Fq%3Dsentidos%2Bolfato%26svnum%3D10%26hl%3Des%26lr%3D" TargetMode="External"/><Relationship Id="rId18" Type="http://schemas.openxmlformats.org/officeDocument/2006/relationships/image" Target="../media/image35.jpeg"/><Relationship Id="rId19" Type="http://schemas.openxmlformats.org/officeDocument/2006/relationships/hyperlink" Target="http://images.google.es/imgres?imgurl=http://www.harcourtschool.com/glossary/science/images/gr1/senses1.jpg&amp;imgrefurl=http://www.harcourtschool.com/glossary/science/define/gr1/senses1a.html&amp;h=109&amp;w=380&amp;sz=17&amp;tbnid=MH75bEzStfMJ:&amp;tbnh=34&amp;tbnw=119&amp;hl=es&amp;start=42&amp;prev=/images%3Fq%3Dsentidos%2Btacto%26start%3D40%26svnum%3D10%26hl%3Des%26lr%3D%26sa%3DN" TargetMode="External"/><Relationship Id="rId20" Type="http://schemas.openxmlformats.org/officeDocument/2006/relationships/image" Target="../media/image36.jpeg"/><Relationship Id="rId21" Type="http://schemas.openxmlformats.org/officeDocument/2006/relationships/hyperlink" Target="http://images.google.es/imgres?imgurl=http://www.formikaio.it/mano.gif&amp;imgrefurl=http://www.formikaio.it/mano.php&amp;h=361&amp;w=319&amp;sz=35&amp;tbnid=EFGI3XACd-oJ:&amp;tbnh=117&amp;tbnw=103&amp;hl=es&amp;start=2&amp;prev=/images%3Fq%3Dmano%26svnum%3D10%26hl%3Des%26lr%3D" TargetMode="External"/><Relationship Id="rId22" Type="http://schemas.openxmlformats.org/officeDocument/2006/relationships/image" Target="../media/image37.jpeg"/><Relationship Id="rId23" Type="http://schemas.openxmlformats.org/officeDocument/2006/relationships/hyperlink" Target="http://images.google.es/imgres?imgurl=http://www.nlm.nih.gov/medlineplus/spanish/ency/images/ency/fullsize/8686.jpg&amp;imgrefurl=http://www.nlm.nih.gov/medlineplus/spanish/ency/esp_imagepages/8686.htm&amp;h=320&amp;w=400&amp;sz=15&amp;tbnid=TO5Ifydx0gQJ:&amp;tbnh=96&amp;tbnw=120&amp;hl=es&amp;start=2&amp;prev=/images%3Fq%3Dlengua%26svnum%3D10%26hl%3Des%26lr%3D" TargetMode="External"/><Relationship Id="rId24" Type="http://schemas.openxmlformats.org/officeDocument/2006/relationships/image" Target="../media/image38.jpeg"/><Relationship Id="rId25" Type="http://schemas.openxmlformats.org/officeDocument/2006/relationships/hyperlink" Target="http://images.google.es/imgres?imgurl=http://html.rincondelvago.com/files/5/3/8/000265380.png&amp;imgrefurl=http://html.rincondelvago.com/aparell-excretor_aparato-excretor_1.html&amp;h=301&amp;w=292&amp;sz=5&amp;tbnid=wNgzGo5HY6AJ:&amp;tbnh=112&amp;tbnw=108&amp;hl=es&amp;start=2&amp;prev=/images%3Fq%3Daparato%2Bexcretor%26svnum%3D10%26hl%3Des%26lr%3D" TargetMode="External"/><Relationship Id="rId26" Type="http://schemas.openxmlformats.org/officeDocument/2006/relationships/image" Target="../media/image39.jpe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omerique.net/twiki/pub/Recursos/AparatoRespiratorio/respigr.gif&amp;imgrefurl=http://www.omerique.net/twiki/pub/Recursos/AparatoRespiratorio/aparatorespiratorio.html&amp;h=441&amp;w=640&amp;sz=62&amp;tbnid=lVK5QbZfMmIJ:&amp;tbnh=93&amp;tbnw=135&amp;hl=es&amp;start=1&amp;prev=/images%3Fq%3Daparatorespiratorio%26svnum%3D10%26hl%3Des%26lr%3D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es/imgres?imgurl=http://html.rincondelvago.com/files/5/3/8/000265380.png&amp;imgrefurl=http://html.rincondelvago.com/aparell-excretor_aparato-excretor_1.html&amp;h=301&amp;w=292&amp;sz=5&amp;tbnid=wNgzGo5HY6AJ:&amp;tbnh=112&amp;tbnw=108&amp;hl=es&amp;start=2&amp;prev=/images%3Fq%3Daparato%2Bexcretor%26svnum%3D10%26hl%3Des%26lr%3D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es/imgres?imgurl=http://www.santillana.es/proyectosEnRed/secunda/imagenes/digestivo.gif&amp;imgrefurl=http://www.santillana.es/proyectosEnRed/secunda/html2/cie3/05_1.htm&amp;h=353&amp;w=262&amp;sz=21&amp;tbnid=xp8urSOZ0s4J:&amp;tbnh=116&amp;tbnw=86&amp;hl=es&amp;start=10&amp;prev=/images%3Fq%3Daparato%2Bdigestivo%26svnum%3D10%26hl%3Des%26lr%3D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images.google.es/imgres?imgurl=http://www.ctv.es/USERS/sos/images/esquel.gif&amp;imgrefurl=http://www.ctv.es/USERS/sos/aparloco.htm&amp;h=401&amp;w=250&amp;sz=5&amp;tbnid=CzWw-9Lhzu0J:&amp;tbnh=120&amp;tbnw=74&amp;hl=es&amp;start=2&amp;prev=/images%3Fq%3Daparato%2Blocomotor%26svnum%3D10%26hl%3Des%26lr%3D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es/imgres?imgurl=http://usuarios.tiscali.es/monthegreat/Aparato%2520Circulatorio.gif&amp;imgrefurl=http://usuarios.tiscali.es/monthegreat/sistema_cadiocirculatorio.htm&amp;h=626&amp;w=400&amp;sz=44&amp;tbnid=Mg46xIzAgeQJ:&amp;tbnh=134&amp;tbnw=85&amp;hl=es&amp;start=1&amp;prev=/images%3Fq%3Daparato%2Bcirculatorio%26svnum%3D10%26hl%3Des%26lr%3D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Unitat 4     </a:t>
            </a:r>
            <a:r>
              <a:rPr b="0" i="1" lang="ca-ES" sz="4400" spc="-1" strike="noStrike">
                <a:solidFill>
                  <a:srgbClr val="2a3d7a"/>
                </a:solidFill>
                <a:latin typeface="Times New Roman"/>
              </a:rPr>
              <a:t>Els anim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133720"/>
            <a:ext cx="1768320" cy="1130040"/>
          </a:xfrm>
          <a:prstGeom prst="rect">
            <a:avLst/>
          </a:prstGeom>
          <a:ln w="0">
            <a:noFill/>
          </a:ln>
        </p:spPr>
      </p:pic>
      <p:pic>
        <p:nvPicPr>
          <p:cNvPr id="9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05740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9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1447920"/>
            <a:ext cx="126828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05520" y="2590920"/>
            <a:ext cx="1600200" cy="1187280"/>
          </a:xfrm>
          <a:prstGeom prst="rect">
            <a:avLst/>
          </a:prstGeom>
          <a:ln w="0">
            <a:noFill/>
          </a:ln>
        </p:spPr>
      </p:pic>
      <p:pic>
        <p:nvPicPr>
          <p:cNvPr id="95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8880" y="2971800"/>
            <a:ext cx="125748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066680" y="3581280"/>
            <a:ext cx="137160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10280" y="4724280"/>
            <a:ext cx="1303560" cy="1752840"/>
          </a:xfrm>
          <a:prstGeom prst="rect">
            <a:avLst/>
          </a:prstGeom>
          <a:ln w="0">
            <a:noFill/>
          </a:ln>
        </p:spPr>
      </p:pic>
      <p:pic>
        <p:nvPicPr>
          <p:cNvPr id="98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24080" y="5562720"/>
            <a:ext cx="1295640" cy="83664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05520" y="464832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images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24080" y="3886200"/>
            <a:ext cx="116532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images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219320" y="510552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436120" y="144792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nomena els 5 sentit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3200400" cy="915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62320" y="3505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2      3       4      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267080"/>
            <a:ext cx="5333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1.- .......................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2.-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3.-........................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4.-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5.-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905120" y="1676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El cérvol menja herb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2971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El lleó menja ca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219320"/>
            <a:ext cx="1714680" cy="1279440"/>
          </a:xfrm>
          <a:prstGeom prst="rect">
            <a:avLst/>
          </a:prstGeom>
          <a:ln w="0">
            <a:noFill/>
          </a:ln>
        </p:spPr>
      </p:pic>
      <p:pic>
        <p:nvPicPr>
          <p:cNvPr id="23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1981080"/>
            <a:ext cx="892080" cy="1360440"/>
          </a:xfrm>
          <a:prstGeom prst="rect">
            <a:avLst/>
          </a:prstGeom>
          <a:ln w="0">
            <a:noFill/>
          </a:ln>
        </p:spPr>
      </p:pic>
      <p:pic>
        <p:nvPicPr>
          <p:cNvPr id="236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3200400"/>
            <a:ext cx="1451160" cy="1211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080" y="34815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’aranya busca ali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8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0" y="3886200"/>
            <a:ext cx="1017720" cy="1066680"/>
          </a:xfrm>
          <a:prstGeom prst="rect">
            <a:avLst/>
          </a:prstGeom>
          <a:ln w="0">
            <a:noFill/>
          </a:ln>
        </p:spPr>
      </p:pic>
      <p:pic>
        <p:nvPicPr>
          <p:cNvPr id="239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114800"/>
            <a:ext cx="879480" cy="1246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579120" y="5410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a vaca menja herb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791320" y="5029200"/>
            <a:ext cx="1325520" cy="925560"/>
          </a:xfrm>
          <a:prstGeom prst="rect">
            <a:avLst/>
          </a:prstGeom>
          <a:ln w="0">
            <a:noFill/>
          </a:ln>
        </p:spPr>
      </p:pic>
      <p:pic>
        <p:nvPicPr>
          <p:cNvPr id="24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34320" y="5715000"/>
            <a:ext cx="1245960" cy="77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652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Escriu què fan aquests anim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81080"/>
            <a:ext cx="914400" cy="682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09680" y="2133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743200"/>
            <a:ext cx="549360" cy="838080"/>
          </a:xfrm>
          <a:prstGeom prst="rect">
            <a:avLst/>
          </a:prstGeom>
          <a:ln w="0">
            <a:noFill/>
          </a:ln>
        </p:spPr>
      </p:pic>
      <p:pic>
        <p:nvPicPr>
          <p:cNvPr id="247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429000"/>
            <a:ext cx="762120" cy="63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9112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9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4648320"/>
            <a:ext cx="43020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3880" y="4267080"/>
            <a:ext cx="43668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19520" y="5410080"/>
            <a:ext cx="914400" cy="638280"/>
          </a:xfrm>
          <a:prstGeom prst="rect">
            <a:avLst/>
          </a:prstGeom>
          <a:ln w="0">
            <a:noFill/>
          </a:ln>
        </p:spPr>
      </p:pic>
      <p:pic>
        <p:nvPicPr>
          <p:cNvPr id="25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9880" y="5943600"/>
            <a:ext cx="76212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33720" y="457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5486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7524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s animals tenen </a:t>
            </a:r>
            <a:r>
              <a:rPr b="1" lang="ca-ES" sz="16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 per desplaçar-se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743200"/>
            <a:ext cx="1257120" cy="1714680"/>
          </a:xfrm>
          <a:prstGeom prst="rect">
            <a:avLst/>
          </a:prstGeom>
          <a:ln w="0">
            <a:noFill/>
          </a:ln>
        </p:spPr>
      </p:pic>
      <p:pic>
        <p:nvPicPr>
          <p:cNvPr id="25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2514600"/>
            <a:ext cx="1577880" cy="1017720"/>
          </a:xfrm>
          <a:prstGeom prst="rect">
            <a:avLst/>
          </a:prstGeom>
          <a:ln w="0">
            <a:noFill/>
          </a:ln>
        </p:spPr>
      </p:pic>
      <p:pic>
        <p:nvPicPr>
          <p:cNvPr id="25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87692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259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3657600"/>
            <a:ext cx="1600200" cy="1125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162920" y="5105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Esquel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1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4114800"/>
            <a:ext cx="936360" cy="1714680"/>
          </a:xfrm>
          <a:prstGeom prst="rect">
            <a:avLst/>
          </a:prstGeom>
          <a:ln w="0">
            <a:noFill/>
          </a:ln>
        </p:spPr>
      </p:pic>
      <p:pic>
        <p:nvPicPr>
          <p:cNvPr id="262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62320" y="3809880"/>
            <a:ext cx="1303200" cy="982800"/>
          </a:xfrm>
          <a:prstGeom prst="rect">
            <a:avLst/>
          </a:prstGeom>
          <a:ln w="0">
            <a:noFill/>
          </a:ln>
        </p:spPr>
      </p:pic>
      <p:pic>
        <p:nvPicPr>
          <p:cNvPr id="263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4952880"/>
            <a:ext cx="1211400" cy="731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133720" y="62485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Ósso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8120" y="10666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Busca al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iccionari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les següents paraules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0" i="1" lang="ca-ES" sz="1800" spc="-1" strike="noStrike">
                <a:solidFill>
                  <a:srgbClr val="5b5249"/>
                </a:solidFill>
                <a:latin typeface="Times New Roman"/>
              </a:rPr>
              <a:t>Pels alumnes xinesos o pels alumnes de segona llengua anglesa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1337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parell locomotor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7339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squelet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5181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Óssos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43828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27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267080"/>
            <a:ext cx="1067040" cy="750960"/>
          </a:xfrm>
          <a:prstGeom prst="rect">
            <a:avLst/>
          </a:prstGeom>
          <a:ln w="0">
            <a:noFill/>
          </a:ln>
        </p:spPr>
      </p:pic>
      <p:pic>
        <p:nvPicPr>
          <p:cNvPr id="27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5715000"/>
            <a:ext cx="838440" cy="50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038480"/>
            <a:ext cx="1067040" cy="797040"/>
          </a:xfrm>
          <a:prstGeom prst="rect">
            <a:avLst/>
          </a:prstGeom>
          <a:ln w="0">
            <a:noFill/>
          </a:ln>
        </p:spPr>
      </p:pic>
      <p:pic>
        <p:nvPicPr>
          <p:cNvPr id="27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876920"/>
            <a:ext cx="62856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2133720"/>
            <a:ext cx="698400" cy="990360"/>
          </a:xfrm>
          <a:prstGeom prst="rect">
            <a:avLst/>
          </a:prstGeom>
          <a:ln w="0">
            <a:noFill/>
          </a:ln>
        </p:spPr>
      </p:pic>
      <p:pic>
        <p:nvPicPr>
          <p:cNvPr id="275" name="images" descr=""/>
          <p:cNvPicPr/>
          <p:nvPr/>
        </p:nvPicPr>
        <p:blipFill>
          <a:blip r:embed="rId7"/>
          <a:stretch/>
        </p:blipFill>
        <p:spPr>
          <a:xfrm>
            <a:off x="1143000" y="5791320"/>
            <a:ext cx="762120" cy="568080"/>
          </a:xfrm>
          <a:prstGeom prst="rect">
            <a:avLst/>
          </a:prstGeom>
          <a:ln w="0">
            <a:noFill/>
          </a:ln>
        </p:spPr>
      </p:pic>
      <p:pic>
        <p:nvPicPr>
          <p:cNvPr id="276" name="images" descr=""/>
          <p:cNvPicPr/>
          <p:nvPr/>
        </p:nvPicPr>
        <p:blipFill>
          <a:blip r:embed="rId8"/>
          <a:stretch/>
        </p:blipFill>
        <p:spPr>
          <a:xfrm>
            <a:off x="1143000" y="3276720"/>
            <a:ext cx="914400" cy="590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2880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Escriu què fa cada animal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2438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352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9680" y="6019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2971800"/>
            <a:ext cx="1523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Camin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Ned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Sal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Rept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Córr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743200"/>
            <a:ext cx="312408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2a3d7a"/>
                </a:solidFill>
                <a:latin typeface="Times New Roman"/>
              </a:rPr>
              <a:t>Els anim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Els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són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éssers viu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que necessiten d’altres animals o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plante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per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limentar-se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La major part dels animals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es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desplacen</a:t>
            </a:r>
            <a:r>
              <a:rPr b="0" lang="ca-ES" sz="2800" spc="-1" strike="noStrike">
                <a:solidFill>
                  <a:srgbClr val="5b5249"/>
                </a:solidFill>
                <a:latin typeface="Times New Roman"/>
              </a:rPr>
              <a:t> per buscar el seu </a:t>
            </a:r>
            <a:r>
              <a:rPr b="1" lang="ca-ES" sz="28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426708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105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1905120"/>
            <a:ext cx="1771560" cy="1325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1905120"/>
            <a:ext cx="1482480" cy="1981080"/>
          </a:xfrm>
          <a:prstGeom prst="rect">
            <a:avLst/>
          </a:prstGeom>
          <a:ln w="0">
            <a:noFill/>
          </a:ln>
        </p:spPr>
      </p:pic>
      <p:pic>
        <p:nvPicPr>
          <p:cNvPr id="107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8880" y="3505320"/>
            <a:ext cx="13114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Diccionari visu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886200"/>
            <a:ext cx="10429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133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962520"/>
            <a:ext cx="1371600" cy="879480"/>
          </a:xfrm>
          <a:prstGeom prst="rect">
            <a:avLst/>
          </a:prstGeom>
          <a:ln w="0">
            <a:noFill/>
          </a:ln>
        </p:spPr>
      </p:pic>
      <p:pic>
        <p:nvPicPr>
          <p:cNvPr id="11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4419720"/>
            <a:ext cx="903240" cy="107460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809880"/>
            <a:ext cx="846000" cy="1131840"/>
          </a:xfrm>
          <a:prstGeom prst="rect">
            <a:avLst/>
          </a:prstGeom>
          <a:ln w="0">
            <a:noFill/>
          </a:ln>
        </p:spPr>
      </p:pic>
      <p:pic>
        <p:nvPicPr>
          <p:cNvPr id="114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209680"/>
            <a:ext cx="1085760" cy="892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62320" y="5257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nim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12408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Ésser vi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7720" y="31240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Ésser inert (no viu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9528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Pla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8280" y="5029200"/>
            <a:ext cx="189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s desplacen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(desplaçar-s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32004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limentar-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219320" y="2057400"/>
            <a:ext cx="126828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371600"/>
            <a:ext cx="624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Busca al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iccionari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les següents paraules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0" i="1" lang="ca-ES" sz="1800" spc="-1" strike="noStrike">
                <a:solidFill>
                  <a:srgbClr val="5b5249"/>
                </a:solidFill>
                <a:latin typeface="Times New Roman"/>
              </a:rPr>
              <a:t>Pels alumnes xinesos o pels alumnes de segona llengua anglesa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306520"/>
            <a:ext cx="41911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nimal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Ésser viu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Planta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Desplaçar-se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Aliment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La major part dels animals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es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desplacen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 per buscar </a:t>
            </a:r>
            <a:r>
              <a:rPr b="1" lang="ca-ES" sz="1800" spc="-1" strike="noStrike">
                <a:solidFill>
                  <a:srgbClr val="5b5249"/>
                </a:solidFill>
                <a:latin typeface="Times New Roman"/>
              </a:rPr>
              <a:t>aliment</a:t>
            </a:r>
            <a:r>
              <a:rPr b="0" lang="ca-ES" sz="1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8400" y="25909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12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2362320"/>
            <a:ext cx="1622160" cy="1211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25480" y="3809880"/>
            <a:ext cx="20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La granota salta i ne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2057400"/>
            <a:ext cx="157140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18080" y="42670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peix ne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71600" y="3962520"/>
            <a:ext cx="2209680" cy="1649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5867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cavall corr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343400" y="4419720"/>
            <a:ext cx="2282760" cy="147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6095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El cuc rep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2057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peix ned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81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cavall corr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657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a granota salta i ned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8862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4956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El cuc rep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486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L’aranya camin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1066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b5249"/>
                </a:solidFill>
                <a:latin typeface="Times New Roman"/>
              </a:rPr>
              <a:t>Relaciona cada frase amb la fotograf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352680"/>
            <a:ext cx="879480" cy="1246320"/>
          </a:xfrm>
          <a:prstGeom prst="rect">
            <a:avLst/>
          </a:prstGeom>
          <a:ln w="0">
            <a:noFill/>
          </a:ln>
        </p:spPr>
      </p:pic>
      <p:pic>
        <p:nvPicPr>
          <p:cNvPr id="144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4495680"/>
            <a:ext cx="1219320" cy="909720"/>
          </a:xfrm>
          <a:prstGeom prst="rect">
            <a:avLst/>
          </a:prstGeom>
          <a:ln w="0">
            <a:noFill/>
          </a:ln>
        </p:spPr>
      </p:pic>
      <p:pic>
        <p:nvPicPr>
          <p:cNvPr id="14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2920" y="1600200"/>
            <a:ext cx="817560" cy="990720"/>
          </a:xfrm>
          <a:prstGeom prst="rect">
            <a:avLst/>
          </a:prstGeom>
          <a:ln w="0">
            <a:noFill/>
          </a:ln>
        </p:spPr>
      </p:pic>
      <p:pic>
        <p:nvPicPr>
          <p:cNvPr id="146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29200" y="2057400"/>
            <a:ext cx="1371600" cy="1023840"/>
          </a:xfrm>
          <a:prstGeom prst="rect">
            <a:avLst/>
          </a:prstGeom>
          <a:ln w="0">
            <a:noFill/>
          </a:ln>
        </p:spPr>
      </p:pic>
      <p:pic>
        <p:nvPicPr>
          <p:cNvPr id="147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5410080"/>
            <a:ext cx="1219320" cy="7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84920" y="1143000"/>
            <a:ext cx="72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5b5249"/>
                </a:solidFill>
                <a:latin typeface="Times New Roman"/>
              </a:rPr>
              <a:t>Perquè la  major part dels animals puguin alimentar-se  tenen una sèrie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ca-ES" sz="1600" spc="-1" strike="noStrike">
                <a:solidFill>
                  <a:srgbClr val="5b5249"/>
                </a:solidFill>
                <a:latin typeface="Times New Roman"/>
              </a:rPr>
              <a:t>d’òrgans</a:t>
            </a: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1600200"/>
            <a:ext cx="243864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SISTEMA NERVIÓ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590920"/>
            <a:ext cx="9144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VIS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590920"/>
            <a:ext cx="106704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OÏD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590920"/>
            <a:ext cx="12193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OLFACT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590920"/>
            <a:ext cx="11430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TACT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590920"/>
            <a:ext cx="99072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5b5249"/>
                </a:solidFill>
                <a:latin typeface="Times New Roman"/>
              </a:rPr>
              <a:t>GUS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27672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5b5249"/>
                </a:solidFill>
                <a:latin typeface="Times New Roman"/>
              </a:rPr>
              <a:t>ÒRGANS DELS SENTI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752120" y="1905120"/>
            <a:ext cx="16002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72000" y="2209320"/>
            <a:ext cx="0" cy="3812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905120"/>
            <a:ext cx="0" cy="6094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95480" y="2438280"/>
            <a:ext cx="14479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438280"/>
            <a:ext cx="0" cy="1526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438280"/>
            <a:ext cx="1371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438280"/>
            <a:ext cx="0" cy="1526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190512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0" cy="685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3048120"/>
            <a:ext cx="152424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4640" y="3048120"/>
            <a:ext cx="152388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30481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048120"/>
            <a:ext cx="152280" cy="1522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09720" y="3048120"/>
            <a:ext cx="228600" cy="1522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4267080"/>
            <a:ext cx="22096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5029200"/>
            <a:ext cx="228600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digestiu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6019920"/>
            <a:ext cx="22860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respiratori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267080"/>
            <a:ext cx="25146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circulatori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5105520"/>
            <a:ext cx="251460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5b5249"/>
                </a:solidFill>
                <a:latin typeface="Times New Roman"/>
              </a:rPr>
              <a:t>Aparell excre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33720" y="990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2a3d7a"/>
                </a:solidFill>
                <a:latin typeface="Times New Roman"/>
              </a:rPr>
              <a:t>Diccionari visu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1600200"/>
            <a:ext cx="96660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752480"/>
            <a:ext cx="84636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1752480"/>
            <a:ext cx="960480" cy="129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92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2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38080" y="1905120"/>
            <a:ext cx="1543320" cy="1063440"/>
          </a:xfrm>
          <a:prstGeom prst="rect">
            <a:avLst/>
          </a:prstGeom>
          <a:ln w="0">
            <a:noFill/>
          </a:ln>
        </p:spPr>
      </p:pic>
      <p:pic>
        <p:nvPicPr>
          <p:cNvPr id="183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362320" y="3657600"/>
            <a:ext cx="1177920" cy="1211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62120" y="3657600"/>
            <a:ext cx="1485720" cy="936720"/>
          </a:xfrm>
          <a:prstGeom prst="rect">
            <a:avLst/>
          </a:prstGeom>
          <a:ln w="0">
            <a:noFill/>
          </a:ln>
        </p:spPr>
      </p:pic>
      <p:pic>
        <p:nvPicPr>
          <p:cNvPr id="185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62520" y="5410080"/>
            <a:ext cx="612720" cy="838440"/>
          </a:xfrm>
          <a:prstGeom prst="rect">
            <a:avLst/>
          </a:prstGeom>
          <a:ln w="0">
            <a:noFill/>
          </a:ln>
        </p:spPr>
      </p:pic>
      <p:pic>
        <p:nvPicPr>
          <p:cNvPr id="186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5410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7" name="images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81680" y="5334120"/>
            <a:ext cx="63360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images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334120" y="3962520"/>
            <a:ext cx="1981080" cy="566640"/>
          </a:xfrm>
          <a:prstGeom prst="rect">
            <a:avLst/>
          </a:prstGeom>
          <a:ln w="0">
            <a:noFill/>
          </a:ln>
        </p:spPr>
      </p:pic>
      <p:pic>
        <p:nvPicPr>
          <p:cNvPr id="189" name="images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620120" y="5410080"/>
            <a:ext cx="60480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images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00600" y="5410080"/>
            <a:ext cx="762120" cy="609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297180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respirator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124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digestiu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locomoto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15200" y="3124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circulator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7242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Cervell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8006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Sistema nervió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images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895480" y="1905120"/>
            <a:ext cx="955800" cy="99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43200" y="30481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Aparell excreto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4114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Els sentit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6400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Vist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6400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Gust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6400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Oïd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6400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Olfac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6400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000" spc="-1" strike="noStrike">
                <a:solidFill>
                  <a:srgbClr val="5b5249"/>
                </a:solidFill>
                <a:latin typeface="Times New Roman"/>
              </a:rPr>
              <a:t>Tac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105520"/>
            <a:ext cx="35812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495680"/>
            <a:ext cx="0" cy="6098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1055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121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Anomena els aparells següents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28800"/>
            <a:ext cx="1542960" cy="1063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080" y="3048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9625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9625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9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905120"/>
            <a:ext cx="955800" cy="990360"/>
          </a:xfrm>
          <a:prstGeom prst="rect">
            <a:avLst/>
          </a:prstGeom>
          <a:ln w="0">
            <a:noFill/>
          </a:ln>
        </p:spPr>
      </p:pic>
      <p:pic>
        <p:nvPicPr>
          <p:cNvPr id="220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4038480"/>
            <a:ext cx="790560" cy="1067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4038480"/>
            <a:ext cx="658800" cy="1067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76720" y="5410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5334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1828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" name="images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905120"/>
            <a:ext cx="676440" cy="1066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9588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5b5249"/>
                </a:solidFill>
                <a:latin typeface="Times New Roman"/>
              </a:rPr>
              <a:t>.........................................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C Santa Colo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07:51Z</dcterms:created>
  <dc:creator>Paco Romero</dc:creator>
  <dc:description/>
  <dc:language>en-US</dc:language>
  <cp:lastModifiedBy>Paco Romero</cp:lastModifiedBy>
  <dcterms:modified xsi:type="dcterms:W3CDTF">2005-11-02T19:44:40Z</dcterms:modified>
  <cp:revision>13</cp:revision>
  <dc:subject/>
  <dc:title>Unitat 4     Els animals</dc:title>
</cp:coreProperties>
</file>